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0B45D-F92A-488B-9FFC-46C2438A62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AA297-2BE6-401B-8597-38E57455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66583-9D6D-470B-89F4-9A9B63B7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1E407-3407-475F-8878-CD36E9C7DC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AECDB-0346-42DF-93FD-3AEB3312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FFE4B-C12F-47CE-A049-3A551FE7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B7BF4-F786-472C-B063-E164B0BB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B0624-0121-4923-95D4-3DB86608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48D0F-C81D-4891-A3EB-BBA434ED4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F3AF0-2D02-45C4-B109-A0A66209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E79BE-388B-4BFD-BD35-9B1DC286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78B16-4BF5-4342-A9AF-7117DBF2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1337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1337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2C4D-211F-4403-91C0-78DCB7588E7A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3800" y="5678640"/>
            <a:ext cx="1600200" cy="117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1337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1337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543800" y="5678640"/>
            <a:ext cx="1600200" cy="117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mod.org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GBrowse:</a:t>
            </a:r>
            <a:br>
              <a:rPr sz="4400"/>
            </a:b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What’s New?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Lincoln Stein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GMOD Meeting, Toronto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October 2011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Snapshots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766" t="17983" r="2772" b="4558"/>
          <a:stretch/>
        </p:blipFill>
        <p:spPr>
          <a:xfrm>
            <a:off x="0" y="1676520"/>
            <a:ext cx="9277200" cy="5783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48108" t="36227" r="28228" b="60058"/>
          <a:stretch/>
        </p:blipFill>
        <p:spPr>
          <a:xfrm>
            <a:off x="2971800" y="2895480"/>
            <a:ext cx="5791320" cy="706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706" t="17983" r="706" b="43103"/>
          <a:stretch/>
        </p:blipFill>
        <p:spPr>
          <a:xfrm>
            <a:off x="0" y="2666880"/>
            <a:ext cx="9144000" cy="2595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rcRect l="51786" t="41874" r="9891" b="6280"/>
          <a:stretch/>
        </p:blipFill>
        <p:spPr>
          <a:xfrm>
            <a:off x="5848200" y="4405320"/>
            <a:ext cx="3200400" cy="2414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rcRect l="24892" t="48366" r="26770" b="37618"/>
          <a:stretch/>
        </p:blipFill>
        <p:spPr>
          <a:xfrm>
            <a:off x="1143000" y="4495680"/>
            <a:ext cx="548640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Authentication Plugins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fd5"/>
                </a:solidFill>
                <a:latin typeface="Comic Sans MS"/>
              </a:rPr>
              <a:t>Very general</a:t>
            </a:r>
            <a:endParaRPr b="0" lang="en-US" sz="28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fd5"/>
                </a:solidFill>
                <a:latin typeface="Comic Sans MS"/>
              </a:rPr>
              <a:t>Plugin modules accept credentials.</a:t>
            </a:r>
            <a:endParaRPr b="0" lang="en-US" sz="24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fd5"/>
                </a:solidFill>
                <a:latin typeface="Comic Sans MS"/>
              </a:rPr>
              <a:t>Return true if user is authenticated.</a:t>
            </a:r>
            <a:endParaRPr b="0" lang="en-US" sz="24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fd5"/>
                </a:solidFill>
                <a:latin typeface="Comic Sans MS"/>
              </a:rPr>
              <a:t>(Optional) Provide user name and group(s)</a:t>
            </a:r>
            <a:endParaRPr b="0" lang="en-US" sz="24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fd5"/>
                </a:solidFill>
                <a:latin typeface="Comic Sans MS"/>
              </a:rPr>
              <a:t>Distributed plugins</a:t>
            </a:r>
            <a:endParaRPr b="0" lang="en-US" sz="28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fd5"/>
                </a:solidFill>
                <a:latin typeface="Comic Sans MS"/>
              </a:rPr>
              <a:t>PAM – support Unix, LDAP, Kerberos, etc.</a:t>
            </a:r>
            <a:endParaRPr b="0" lang="en-US" sz="24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fd5"/>
                </a:solidFill>
                <a:latin typeface="Comic Sans MS"/>
              </a:rPr>
              <a:t>LDAP – Support LDAP users and groups.</a:t>
            </a:r>
            <a:endParaRPr b="0" lang="en-US" sz="24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Performance Improvements</a:t>
            </a: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Cache parsed configuration files.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fd5"/>
                </a:solidFill>
                <a:latin typeface="Comic Sans MS"/>
              </a:rPr>
              <a:t>Useful for configs with 1000’s of tracks.</a:t>
            </a:r>
            <a:endParaRPr b="0" lang="en-US" sz="28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Render-slave servers use preforking.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901" t="36807" r="2542" b="0"/>
          <a:stretch/>
        </p:blipFill>
        <p:spPr>
          <a:xfrm>
            <a:off x="3962520" y="3927600"/>
            <a:ext cx="4948200" cy="2092320"/>
          </a:xfrm>
          <a:prstGeom prst="rect">
            <a:avLst/>
          </a:prstGeom>
          <a:ln w="0">
            <a:noFill/>
          </a:ln>
        </p:spPr>
      </p:pic>
      <p:sp>
        <p:nvSpPr>
          <p:cNvPr id="119" name="tower"/>
          <p:cNvSpPr/>
          <p:nvPr/>
        </p:nvSpPr>
        <p:spPr>
          <a:xfrm>
            <a:off x="1905120" y="4495680"/>
            <a:ext cx="480960" cy="720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90920" y="4842000"/>
            <a:ext cx="1447560" cy="0"/>
          </a:xfrm>
          <a:prstGeom prst="line">
            <a:avLst/>
          </a:prstGeom>
          <a:ln w="76320">
            <a:solidFill>
              <a:srgbClr val="133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21" name="tower"/>
          <p:cNvSpPr/>
          <p:nvPr/>
        </p:nvSpPr>
        <p:spPr>
          <a:xfrm>
            <a:off x="1219320" y="3962520"/>
            <a:ext cx="480960" cy="720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4308480"/>
            <a:ext cx="2209680" cy="0"/>
          </a:xfrm>
          <a:prstGeom prst="line">
            <a:avLst/>
          </a:prstGeom>
          <a:ln w="76320">
            <a:solidFill>
              <a:srgbClr val="133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23" name="tower"/>
          <p:cNvSpPr/>
          <p:nvPr/>
        </p:nvSpPr>
        <p:spPr>
          <a:xfrm>
            <a:off x="1143000" y="4917960"/>
            <a:ext cx="480960" cy="720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5334120"/>
            <a:ext cx="2133360" cy="0"/>
          </a:xfrm>
          <a:prstGeom prst="line">
            <a:avLst/>
          </a:prstGeom>
          <a:ln w="76320">
            <a:solidFill>
              <a:srgbClr val="133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25" name="tower"/>
          <p:cNvSpPr/>
          <p:nvPr/>
        </p:nvSpPr>
        <p:spPr>
          <a:xfrm>
            <a:off x="1905120" y="5527800"/>
            <a:ext cx="480960" cy="720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5873760"/>
            <a:ext cx="1447560" cy="0"/>
          </a:xfrm>
          <a:prstGeom prst="line">
            <a:avLst/>
          </a:prstGeom>
          <a:ln w="76320">
            <a:solidFill>
              <a:srgbClr val="133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Cloud Image (in progress)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28" name="tower"/>
          <p:cNvSpPr/>
          <p:nvPr/>
        </p:nvSpPr>
        <p:spPr>
          <a:xfrm>
            <a:off x="2514600" y="2286000"/>
            <a:ext cx="480960" cy="720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901" t="36807" r="2542" b="0"/>
          <a:stretch/>
        </p:blipFill>
        <p:spPr>
          <a:xfrm>
            <a:off x="3429000" y="1905120"/>
            <a:ext cx="4948200" cy="2092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600200" y="3809880"/>
            <a:ext cx="685800" cy="3812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133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7ff"/>
                </a:solidFill>
                <a:latin typeface="Comic Sans MS"/>
              </a:rPr>
              <a:t>Yeast</a:t>
            </a:r>
            <a:endParaRPr b="0" lang="en-US" sz="18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4343400"/>
            <a:ext cx="685800" cy="3808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133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7ff"/>
                </a:solidFill>
                <a:latin typeface="Comic Sans MS"/>
              </a:rPr>
              <a:t>Fly</a:t>
            </a:r>
            <a:endParaRPr b="0" lang="en-US" sz="18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81080" y="4343400"/>
            <a:ext cx="685800" cy="3808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133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7ff"/>
                </a:solidFill>
                <a:latin typeface="Comic Sans MS"/>
              </a:rPr>
              <a:t>Worm</a:t>
            </a:r>
            <a:endParaRPr b="0" lang="en-US" sz="18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876920"/>
            <a:ext cx="1828800" cy="4572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133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7ff"/>
                </a:solidFill>
                <a:latin typeface="Comic Sans MS"/>
              </a:rPr>
              <a:t>Human</a:t>
            </a:r>
            <a:endParaRPr b="0" lang="en-US" sz="18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66160" y="5427720"/>
            <a:ext cx="24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7ff"/>
                </a:solidFill>
                <a:latin typeface="Comic Sans MS"/>
              </a:rPr>
              <a:t>Amazon Snapshots</a:t>
            </a:r>
            <a:endParaRPr b="0" lang="en-US" sz="2000" spc="-1" strike="noStrike">
              <a:solidFill>
                <a:srgbClr val="1337ff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0" idx="1"/>
            <a:endCxn id="128" idx="10"/>
          </p:cNvCxnSpPr>
          <p:nvPr/>
        </p:nvCxnSpPr>
        <p:spPr>
          <a:xfrm flipH="1" flipV="1" rot="5400000">
            <a:off x="1658520" y="2953800"/>
            <a:ext cx="1140480" cy="572040"/>
          </a:xfrm>
          <a:prstGeom prst="bentConnector2">
            <a:avLst/>
          </a:prstGeom>
          <a:ln w="9360">
            <a:solidFill>
              <a:srgbClr val="1337ff"/>
            </a:solidFill>
            <a:miter/>
            <a:tailEnd len="med" type="triangle" w="med"/>
          </a:ln>
        </p:spPr>
      </p:cxnSp>
      <p:sp>
        <p:nvSpPr>
          <p:cNvPr id="136" name="tower"/>
          <p:cNvSpPr/>
          <p:nvPr/>
        </p:nvSpPr>
        <p:spPr>
          <a:xfrm>
            <a:off x="1066680" y="2514600"/>
            <a:ext cx="254160" cy="380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37" name="tower"/>
          <p:cNvSpPr/>
          <p:nvPr/>
        </p:nvSpPr>
        <p:spPr>
          <a:xfrm>
            <a:off x="609480" y="2514600"/>
            <a:ext cx="254160" cy="380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38" name="tower"/>
          <p:cNvSpPr/>
          <p:nvPr/>
        </p:nvSpPr>
        <p:spPr>
          <a:xfrm>
            <a:off x="609480" y="3048120"/>
            <a:ext cx="254160" cy="380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39" name="tower"/>
          <p:cNvSpPr/>
          <p:nvPr/>
        </p:nvSpPr>
        <p:spPr>
          <a:xfrm>
            <a:off x="228600" y="2514600"/>
            <a:ext cx="254160" cy="380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680" y="3429000"/>
            <a:ext cx="10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7ff"/>
                </a:solidFill>
                <a:latin typeface="Comic Sans MS"/>
              </a:rPr>
              <a:t>Render</a:t>
            </a:r>
            <a:endParaRPr b="0" lang="en-US" sz="20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7ff"/>
                </a:solidFill>
                <a:latin typeface="Comic Sans MS"/>
              </a:rPr>
              <a:t>Slaves</a:t>
            </a:r>
            <a:endParaRPr b="0" lang="en-US" sz="20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23360" y="30481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7ff"/>
                </a:solidFill>
                <a:latin typeface="Comic Sans MS"/>
              </a:rPr>
              <a:t>Master</a:t>
            </a:r>
            <a:endParaRPr b="0" lang="en-US" sz="2000" spc="-1" strike="noStrike">
              <a:solidFill>
                <a:srgbClr val="1337ff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28" idx="11"/>
            <a:endCxn id="129" idx="1"/>
          </p:cNvCxnSpPr>
          <p:nvPr/>
        </p:nvCxnSpPr>
        <p:spPr>
          <a:xfrm>
            <a:off x="2995560" y="2674800"/>
            <a:ext cx="434160" cy="277200"/>
          </a:xfrm>
          <a:prstGeom prst="bentConnector3">
            <a:avLst>
              <a:gd name="adj1" fmla="val 49792"/>
            </a:avLst>
          </a:prstGeom>
          <a:ln w="9360">
            <a:solidFill>
              <a:srgbClr val="1337ff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6" idx="10"/>
          </p:cNvCxnSpPr>
          <p:nvPr/>
        </p:nvCxnSpPr>
        <p:spPr>
          <a:xfrm flipH="1" flipV="1" rot="5400000">
            <a:off x="2006280" y="1244160"/>
            <a:ext cx="457920" cy="2083680"/>
          </a:xfrm>
          <a:prstGeom prst="bentConnector2">
            <a:avLst/>
          </a:prstGeom>
          <a:ln w="9360">
            <a:solidFill>
              <a:srgbClr val="1337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Cloud Admin Interface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12459" t="0" r="11166" b="22071"/>
          <a:stretch/>
        </p:blipFill>
        <p:spPr>
          <a:xfrm>
            <a:off x="0" y="380880"/>
            <a:ext cx="8991720" cy="59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a1506"/>
                </a:solidFill>
                <a:latin typeface="Comic Sans MS"/>
              </a:rPr>
              <a:t>Faceted Track and Source Management (2.43?)</a:t>
            </a:r>
            <a:endParaRPr b="0" lang="en-US" sz="4000" spc="-1" strike="noStrike">
              <a:solidFill>
                <a:srgbClr val="da1506"/>
              </a:solidFill>
              <a:latin typeface="Comic Sans MS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16907" r="12528" b="4644"/>
          <a:stretch/>
        </p:blipFill>
        <p:spPr>
          <a:xfrm>
            <a:off x="0" y="1816200"/>
            <a:ext cx="91440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a1506"/>
                </a:solidFill>
                <a:latin typeface="Comic Sans MS"/>
              </a:rPr>
              <a:t>Source code, installation instructions &amp; tutorials available at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www.gmod.org</a:t>
            </a:r>
            <a:endParaRPr b="0" lang="en-US" sz="40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1266480" y="2971800"/>
            <a:ext cx="236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1337ff"/>
                </a:solidFill>
                <a:uFillTx/>
                <a:latin typeface="Comic Sans MS"/>
              </a:rPr>
              <a:t>OICR</a:t>
            </a:r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7ff"/>
                </a:solidFill>
                <a:latin typeface="Comic Sans MS"/>
              </a:rPr>
              <a:t>Scott Cain</a:t>
            </a:r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7ff"/>
                </a:solidFill>
                <a:latin typeface="Comic Sans MS"/>
              </a:rPr>
              <a:t>Sheldon McKay</a:t>
            </a:r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7ff"/>
                </a:solidFill>
                <a:latin typeface="Comic Sans MS"/>
              </a:rPr>
              <a:t>Peter Ruzanov</a:t>
            </a:r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78000" y="2971800"/>
            <a:ext cx="3172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1337ff"/>
                </a:solidFill>
                <a:uFillTx/>
                <a:latin typeface="Comic Sans MS"/>
              </a:rPr>
              <a:t>University of Waterloo</a:t>
            </a:r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7ff"/>
                </a:solidFill>
                <a:latin typeface="Comic Sans MS"/>
              </a:rPr>
              <a:t>Ian Davies</a:t>
            </a:r>
            <a:endParaRPr b="0" lang="en-US" sz="20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7ff"/>
                </a:solidFill>
                <a:latin typeface="Comic Sans MS"/>
              </a:rPr>
              <a:t>Tony deCatanzaro</a:t>
            </a:r>
            <a:endParaRPr b="0" lang="en-US" sz="20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7ff"/>
                </a:solidFill>
                <a:latin typeface="Comic Sans MS"/>
              </a:rPr>
              <a:t>Ahmed Einalem</a:t>
            </a:r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7ff"/>
                </a:solidFill>
                <a:latin typeface="Comic Sans MS"/>
              </a:rPr>
              <a:t>Sukhwinder Lall</a:t>
            </a:r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7ff"/>
                </a:solidFill>
                <a:latin typeface="Comic Sans MS"/>
              </a:rPr>
              <a:t>Chris Vandevelde</a:t>
            </a:r>
            <a:endParaRPr b="0" lang="en-US" sz="20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7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333" t="16054" r="5640" b="9529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fd5"/>
                </a:solidFill>
                <a:latin typeface="Comic Sans MS"/>
              </a:rPr>
              <a:t>Open source web-based genome browser used by model organism Dbs and many other groups.</a:t>
            </a:r>
            <a:endParaRPr b="0" lang="en-US" sz="28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fd5"/>
                </a:solidFill>
                <a:latin typeface="Comic Sans MS"/>
              </a:rPr>
              <a:t>Adaptors for flat files, indexed files and many relational databases.</a:t>
            </a:r>
            <a:endParaRPr b="0" lang="en-US" sz="28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fd5"/>
                </a:solidFill>
                <a:latin typeface="Comic Sans MS"/>
              </a:rPr>
              <a:t>Highly customizable.</a:t>
            </a:r>
            <a:endParaRPr b="0" lang="en-US" sz="28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fd5"/>
                </a:solidFill>
                <a:latin typeface="Comic Sans MS"/>
              </a:rPr>
              <a:t>Large user and support community.</a:t>
            </a:r>
            <a:endParaRPr b="0" lang="en-US" sz="28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fd5"/>
                </a:solidFill>
                <a:latin typeface="Comic Sans MS"/>
              </a:rPr>
              <a:t>Part of the GMOD suite of integrated genome database applications</a:t>
            </a:r>
            <a:endParaRPr b="0" lang="en-US" sz="28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Features Added in 2011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fd5"/>
                </a:solidFill>
                <a:latin typeface="Comic Sans MS"/>
              </a:rPr>
              <a:t>v2.20 (1/2011) -&gt; v2.41 (10/2011)</a:t>
            </a:r>
            <a:endParaRPr b="0" lang="en-US" sz="24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fd5"/>
                </a:solidFill>
                <a:latin typeface="Comic Sans MS"/>
              </a:rPr>
              <a:t>User Interface</a:t>
            </a:r>
            <a:endParaRPr b="0" lang="en-US" sz="24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0fd5"/>
                </a:solidFill>
                <a:latin typeface="Comic Sans MS"/>
              </a:rPr>
              <a:t>Horizontal dragging of tracks</a:t>
            </a: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0fd5"/>
                </a:solidFill>
                <a:latin typeface="Comic Sans MS"/>
              </a:rPr>
              <a:t>Floating ruler</a:t>
            </a: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0fd5"/>
                </a:solidFill>
                <a:latin typeface="Comic Sans MS"/>
              </a:rPr>
              <a:t>Track favorites</a:t>
            </a: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0fd5"/>
                </a:solidFill>
                <a:latin typeface="Comic Sans MS"/>
              </a:rPr>
              <a:t>Snapshots &amp; user accounts</a:t>
            </a: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0fd5"/>
                </a:solidFill>
                <a:latin typeface="Comic Sans MS"/>
              </a:rPr>
              <a:t>iPad support</a:t>
            </a: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fd5"/>
                </a:solidFill>
                <a:latin typeface="Comic Sans MS"/>
              </a:rPr>
              <a:t>Internals</a:t>
            </a:r>
            <a:endParaRPr b="0" lang="en-US" sz="24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0fd5"/>
                </a:solidFill>
                <a:latin typeface="Comic Sans MS"/>
              </a:rPr>
              <a:t>Authentication plugin architecture (PAM, LDAP)</a:t>
            </a: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0fd5"/>
                </a:solidFill>
                <a:latin typeface="Comic Sans MS"/>
              </a:rPr>
              <a:t>Performance improvements</a:t>
            </a: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0fd5"/>
                </a:solidFill>
                <a:latin typeface="Comic Sans MS"/>
              </a:rPr>
              <a:t>EC2 cloud image (in progress)</a:t>
            </a: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Live Demo Time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Horizontal Scrolling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Floating Ruler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Track Filtering and Favorites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User Accounts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Track Sharing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Snapshots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a1506"/>
                </a:solidFill>
                <a:latin typeface="Comic Sans MS"/>
              </a:rPr>
              <a:t>Horizontal Scrolling</a:t>
            </a:r>
            <a:endParaRPr b="0" lang="en-US" sz="4000" spc="-1" strike="noStrike">
              <a:solidFill>
                <a:srgbClr val="da1506"/>
              </a:solidFill>
              <a:latin typeface="Comic Sans M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3305" t="1949" r="14875" b="4456"/>
          <a:stretch/>
        </p:blipFill>
        <p:spPr>
          <a:xfrm>
            <a:off x="533520" y="1523880"/>
            <a:ext cx="8381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340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Floating Ruler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12556" t="16199" r="14339" b="3052"/>
          <a:stretch/>
        </p:blipFill>
        <p:spPr>
          <a:xfrm>
            <a:off x="762120" y="1689120"/>
            <a:ext cx="7391160" cy="5168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12556" t="16199" r="14339" b="3052"/>
          <a:stretch/>
        </p:blipFill>
        <p:spPr>
          <a:xfrm>
            <a:off x="762120" y="1676520"/>
            <a:ext cx="739116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a1506"/>
                </a:solidFill>
                <a:latin typeface="Comic Sans MS"/>
              </a:rPr>
              <a:t>Track Filtering and Favorites</a:t>
            </a:r>
            <a:endParaRPr b="0" lang="en-US" sz="4000" spc="-1" strike="noStrike">
              <a:solidFill>
                <a:srgbClr val="da1506"/>
              </a:solidFill>
              <a:latin typeface="Comic Sans M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668" t="16784" r="18350" b="34509"/>
          <a:stretch/>
        </p:blipFill>
        <p:spPr>
          <a:xfrm>
            <a:off x="0" y="1295280"/>
            <a:ext cx="9144000" cy="3481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rcRect l="966" t="16434" r="13424" b="18780"/>
          <a:stretch/>
        </p:blipFill>
        <p:spPr>
          <a:xfrm>
            <a:off x="76320" y="2514600"/>
            <a:ext cx="9067680" cy="4343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rcRect l="668" t="17135" r="17311" b="32162"/>
          <a:stretch/>
        </p:blipFill>
        <p:spPr>
          <a:xfrm>
            <a:off x="76320" y="1295280"/>
            <a:ext cx="9144000" cy="3578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rcRect l="0" t="17019" r="17830" b="41668"/>
          <a:stretch/>
        </p:blipFill>
        <p:spPr>
          <a:xfrm>
            <a:off x="0" y="1295280"/>
            <a:ext cx="91882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User Accounts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766" t="16750" r="2103" b="3450"/>
          <a:stretch/>
        </p:blipFill>
        <p:spPr>
          <a:xfrm>
            <a:off x="457200" y="1463760"/>
            <a:ext cx="8458200" cy="5394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64056" t="21182" r="11568" b="57390"/>
          <a:stretch/>
        </p:blipFill>
        <p:spPr>
          <a:xfrm>
            <a:off x="6095880" y="1523880"/>
            <a:ext cx="2428920" cy="1657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rcRect l="64150" t="21801" r="11568" b="47293"/>
          <a:stretch/>
        </p:blipFill>
        <p:spPr>
          <a:xfrm>
            <a:off x="5791320" y="1219320"/>
            <a:ext cx="2419200" cy="2390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rcRect l="1052" t="17490" r="8702" b="9604"/>
          <a:stretch/>
        </p:blipFill>
        <p:spPr>
          <a:xfrm>
            <a:off x="0" y="1219320"/>
            <a:ext cx="8991720" cy="5638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rcRect l="766" t="17983" r="2772" b="4558"/>
          <a:stretch/>
        </p:blipFill>
        <p:spPr>
          <a:xfrm>
            <a:off x="0" y="1160640"/>
            <a:ext cx="9277200" cy="57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Track Sharing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669" t="17737" r="1052" b="28327"/>
          <a:stretch/>
        </p:blipFill>
        <p:spPr>
          <a:xfrm>
            <a:off x="0" y="1752480"/>
            <a:ext cx="914400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4T10:20:49Z</dcterms:created>
  <dc:creator>Keith Bradnam</dc:creator>
  <dc:description/>
  <dc:language>en-US</dc:language>
  <cp:lastModifiedBy>Lincoln Stein</cp:lastModifiedBy>
  <dcterms:modified xsi:type="dcterms:W3CDTF">2011-10-12T03:53:43Z</dcterms:modified>
  <cp:revision>502</cp:revision>
  <dc:subject/>
  <dc:title>WormBase Advisory  Board Meeting</dc:title>
</cp:coreProperties>
</file>